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9388-0C5A-45A7-A613-6B3C7ECF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8B8-7901-41EE-834A-1D311D0D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FDD2-18AD-414B-A242-45D5910A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7C64-CA44-4172-9FA6-B6D73E7E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BB03-3C32-47EF-9CE0-7400173A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FF4C-5FBB-4D56-886F-397C0255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55AC-5636-4156-9EF8-D67D6039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2B0B-E87B-42C3-A01C-80DB98B7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2FA5-F1BA-4D88-9BEB-6A447994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3466-0112-4B58-A2CB-684A02D0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88A6-42CC-484A-9258-CA992ACC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BA19-5794-4D54-A8E4-FBFA657F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D3F9-FE61-4134-929F-A544593F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6AAA-D349-4EBC-8B5E-787C3F32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6046-BCA5-4685-9DDC-BE0E44D8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980F-06DE-4085-A2A0-04C9D587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EA22-DAE6-4BEE-980C-4D6AF041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E27F-639D-495A-9A31-0EDE332A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6951-3EE7-4122-A5B6-83FD8E29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7F4-FA90-45BD-A23C-93869B17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C97-6E03-4AC5-8CA2-10A851C4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BA37-858D-4A7E-8A91-4AF0A3BC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EC1-1EAE-452A-A731-CE7649CB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7C66-7BBB-4084-A3F9-0CB0BC78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9247F-C272-4551-B1AF-57D5993FD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67144D0A-288B-4D49-8FED-17F91A155EA0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4688" t="33337" r="10155" b="18753"/>
          <a:stretch/>
        </p:blipFill>
        <p:spPr>
          <a:xfrm>
            <a:off x="239760" y="274680"/>
            <a:ext cx="9383760" cy="3960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96960" y="4998960"/>
            <a:ext cx="8763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mbria"/>
              </a:rPr>
              <a:t>BOEING 787 DREAMLI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9960" t="23685" r="52921" b="36087"/>
          <a:stretch/>
        </p:blipFill>
        <p:spPr>
          <a:xfrm>
            <a:off x="0" y="3240"/>
            <a:ext cx="10080720" cy="6215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43000" y="6629400"/>
            <a:ext cx="845820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eat with Milk – Fly Oreo Airlines  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9960" t="20315" r="51406" b="33843"/>
          <a:stretch/>
        </p:blipFill>
        <p:spPr>
          <a:xfrm>
            <a:off x="0" y="0"/>
            <a:ext cx="10080720" cy="5913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" y="6172200"/>
            <a:ext cx="9372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y Stars and Stripes Airline – The True American Air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4646" t="20005" r="59072" b="28712"/>
          <a:stretch/>
        </p:blipFill>
        <p:spPr>
          <a:xfrm>
            <a:off x="0" y="20520"/>
            <a:ext cx="10080720" cy="6121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71600" y="6389640"/>
            <a:ext cx="8001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ka Dot Airline – We have a spot for you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7686" t="23851" r="52164" b="29997"/>
          <a:stretch/>
        </p:blipFill>
        <p:spPr>
          <a:xfrm>
            <a:off x="0" y="-55440"/>
            <a:ext cx="10080720" cy="5803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00200" y="6400800"/>
            <a:ext cx="6629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Deserve a Break To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7188" t="27086" r="3127" b="20835"/>
          <a:stretch/>
        </p:blipFill>
        <p:spPr>
          <a:xfrm>
            <a:off x="0" y="0"/>
            <a:ext cx="9828360" cy="6299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108240" y="6635880"/>
            <a:ext cx="428472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Flying Zebr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7686" t="20806" r="51406" b="36530"/>
          <a:stretch/>
        </p:blipFill>
        <p:spPr>
          <a:xfrm>
            <a:off x="0" y="0"/>
            <a:ext cx="10080720" cy="614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trick Mooney</dc:creator>
  <dc:description/>
  <dc:language>en-US</dc:language>
  <cp:lastModifiedBy>Patrick J. Mooney</cp:lastModifiedBy>
  <dcterms:modified xsi:type="dcterms:W3CDTF">2012-03-13T13:46:02Z</dcterms:modified>
  <cp:revision>2</cp:revision>
  <dc:subject/>
  <dc:title>Slide 1</dc:title>
</cp:coreProperties>
</file>